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32D-A106-4C5C-8F8A-825E0E87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E75-42B8-4A34-AD34-C520D6CE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F88-D244-4013-8F3B-F1BCB490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F08-8A87-4277-A1A4-08E3E34E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EDEE-53D4-4A21-9E93-22FB4F13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C1EF-7C3E-42E7-8DA6-3E755C36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72CC-E452-4276-9474-500081E5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1E93-3081-48E3-9488-DFC9FEF9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98A1-A0D2-4BE1-B8AC-03D9D184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191-192B-4BB5-804E-A6BDB09B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CC2B-C938-4EAC-978B-C51573D8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529-55CB-4ECA-AE53-BBE0FF0C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978-F5F2-4B48-8B32-C37ED691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15F1-4EEB-4969-8918-AEEC618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F21E-A2F1-4792-B426-4F920714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7975-DE66-4CB4-81A6-EE96C5FE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F969-1479-46F7-8A88-B41D1595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382-1C3B-4524-BE7F-19D32C40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703-E285-43C5-B484-7A378031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14A-FD72-4C03-A3EC-75596381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F11-AB36-49F6-A80F-8E6F4147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EE2-BC83-4C69-A82E-B7DA3BD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6BD-592B-4F01-ACA9-E46BAB15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652-B171-444A-B184-F638A70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0FBA-A381-4C71-87AB-3AA2ED27693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2B3B-905E-4DA9-8E1E-99923F6D9D8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инистерство образования Омской области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ОУ « Мокшинская СОШ»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4800" spc="-1" strike="noStrike" u="sng">
                <a:solidFill>
                  <a:srgbClr val="1c1c1c"/>
                </a:solidFill>
                <a:uFillTx/>
                <a:latin typeface="Tahoma"/>
              </a:rPr>
              <a:t>Школьный рюкзак. Его влияние на формирование      осанки учащихся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. Весёлая Поляна-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Фото с сайта www.rasprodaga.com.ua"/>
          <p:cNvPicPr/>
          <p:nvPr/>
        </p:nvPicPr>
        <p:blipFill>
          <a:blip r:embed="rId1"/>
          <a:stretch/>
        </p:blipFill>
        <p:spPr>
          <a:xfrm>
            <a:off x="250920" y="3645000"/>
            <a:ext cx="3529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3"/>
          <p:cNvSpPr/>
          <p:nvPr/>
        </p:nvSpPr>
        <p:spPr>
          <a:xfrm>
            <a:off x="539640" y="230040"/>
            <a:ext cx="896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равнительный анализ физиолого-гигиен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норматива веса школьного рюкзака с ежедневны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его вес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1258920" y="36450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р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059280" y="29242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р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00720" y="24922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р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22"/>
          <p:cNvGraphicFramePr/>
          <p:nvPr/>
        </p:nvGraphicFramePr>
        <p:xfrm>
          <a:off x="250920" y="1989000"/>
          <a:ext cx="8199360" cy="45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819936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При выборе школьного портфеля важно все – и внешний вид, и удобство, и функциональность. В супермаркетах, на рынках и в магазинах огромный выбор ярких ранцев. Разбегаются глаза не только у школьников, но и у родителей.  И тут главное – не ошибиться, ведь ребёнку таскать эту сумку в школу каждый день, и, возможно, даже не один год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Обратить внимание родителей на содержание школьных рюкзаков своих дет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едложить родителям  восемь правил, которых следует придерживаться при выборе рюкзак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1. Главное, чтобы «спинка» была тверд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 должен иметь такую конструкцию, чтобы при носке он располагался на спине школьника. Поэтому он должен иметь жесткую спинку, фиксирующую позвоночник ребенка, и прочное днище. Жесткость спинки ранца и ее обивка должны предотвращать давление содержимого ранца на спину школьни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2. Ткань должна быть прочной и водонепроницаем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новите свой выбор на ранцах и рюкзаках из водонепроницаемой прочной нейлоновой ткани. Даже если ваш школьник прольет на него сок или уронит в лужу, портфель можно будет протереть или постира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3. Табу на рюкзаки с одной лямк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не хотите, чтобы ваш ребенок не имел проблемы с позвоночником, а также почками и т. д., не покупайте ему портфель, который носят в одной руке. Это должен быть обязательно ранец с двумя лямкам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4. Чем легче, тем лучше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5. Проверяем лямки и ремеш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должны иметь регулирующую пряжку, которая позволяет менять их длину в зависимости от одежды и по мере роста ребенка ( не забывайте, что зимой придется удлинять лямки, регулируя их под одежду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ямки ранца должны быть обиты дополнительным слоем мягкого материала, чтобы они не врезались в плеч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оме того, лямки должны быть крепкими, прошитыми несколькими строчками, и ни в коем случае не приклеенны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ирина ремней должна быть не меньше 4 с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жная деталь: у некоторых моделей есть дополнительные ремни. Ремни для пояса или бедер снимут примерно половину нагрузки с пле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6. Проверьте наличие светоотражател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7. Без примерки не обойтис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авило 8. Осматриваем ручки ран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должны быть гладкими, без вырезов, выпуклостей или острых (выступающих) деталей. Однако не всегда у ранцев могут быть удобные ручки. Например, часто можно увидеть портфели с неудобной тонкой ручкой. Но это сделано специально, чтобы ребенок не тащил ранец в руках, а надевал его на спин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ы обозначили лишь некоторые пути решения этой проблемы. Однако, по-нашему мнению, острота ситуации может быть снята только тогда, когда охрана здоровья детей станет одной из самых важных задач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«Большая детская энциклопедия»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с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ЗАО « Новый Диск»,2004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Гигиенические требования к изданиям учебным для общего и начального профессионального образо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« Детская энциклопедия Кирилла и Мефодия»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иска – ООО « Уральский электронный завод», 2002-2007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Начальное образование//Школьный рюкзак: взгляд гигиениста, с.38; №6-2008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боту подготовила учениц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класса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       МОДИНОВА АЛЕКСАНД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3094200"/>
            <a:ext cx="777240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итель: Модинова Наталья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ексеевна, учитель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чальных класс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256716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правильно выбрать ране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следование веса школьного рюкза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763640" y="549360"/>
            <a:ext cx="489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летние исследования, проводимые НИИ гигиены и охраны здоровья детей и подростков , показали, что за последние 10-15 лет произошли существенные изменения в физическом развитии и состоянии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етей приходят в школу с нарушениями осанки, а за годы учёбы этот процесс удваивае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я в своём исследовании попробую выяснить влияние школьного рюкзака на формирование осанки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едмет исследо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школьный рюкзак, как фактор,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ющий на  формирование осанки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исследо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пределить как влияет ношение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ьного рюкзака на физическое развитие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остояние здоровья 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.Изучить основные требования гигиенистов,  предъявляемые к весу ранца и комплекту школьных принадлежнос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сследовать вес школьного  рюкзака учащихся нашей школ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езультаты исследования обсудить с учащимися нашего класса, а главное – с их родителями, на уроке здоровь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Изготовить буклеты о правильном выборе ранцев для родит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ипотеза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если в процессе исследования  я буду убеждена, что ежедневное ношение школьного рюкзака способствует правильному или неправильному формированию осанки, то сделаю для себя и других необходимые выводы о предупреждении развития сколиоз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ra1"/>
          <p:cNvPicPr/>
          <p:nvPr/>
        </p:nvPicPr>
        <p:blipFill>
          <a:blip r:embed="rId1"/>
          <a:stretch/>
        </p:blipFill>
        <p:spPr>
          <a:xfrm>
            <a:off x="0" y="3905280"/>
            <a:ext cx="238140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39640" y="189000"/>
            <a:ext cx="835344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 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условлена тем, что    в настоящее время медицинскими работниками в школах выявлено большое количество детей, страдающих искривлением позвоноч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о школьного обучения сопряжено с большими переменами в жизни ребён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ьная осанка начинает формироваться с первых лет жизни ребён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наиболее важный период – с4 до 10 лет, когда быстрыми темпами формируются механизмы, обеспечивающие вертикальную позу. Установлено, что на формирование неправильной осанки у детей оказывают влияние наличие хронических заболеваний, недостаточный по времени отдых и пассивные формы его проведения, неправильное положение тела во время учёбы, несоответствующая росту мебел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ественное влияние на формирование осанки школьников оказывает ношение тяжёлых ранцев и особенно портф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вызывает сомнения тот факт, что ежедневное нош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я   способствует  формированию неправильной осан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улярная ассиметричная нагрузка на неокрепши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воночник чревата неприятностями на всю дальнейшую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зн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чно, ношение книг и прочих принадлежностей в ранц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спине более рационально, так как способствует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вномерному распределению нагрузки, освобождает руки дл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бодной ходьб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ак правильно выбрать ранец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выбору ранца не стоит относиться слишком легкомысленно, уверяют врачи. Ведь часто именно неудачно подобранный ранец становится причиной различных заболеваний у школьников.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лог здоровья — легкий ранец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так, школьный рюкзак  должен быть сделан из гигиеничного водоотталкивающего легкого материала, снабжен эластичными лямками и светоотражателями, чтобы его юного владельца могли увидеть в темноте автомобилисты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нь желательно, чтобы у ранца была твердая ортопедическая спинка. Это поможет ребенку сохранить хорошую осанку. Но, пожалуй, самое главное требование — портфель должен быть легким и компактным. Оказывается, одной из причин головных болей у школьников, особенно в младших классах, являются именно тяжелые ранцы. Дети напрягают плечевые мышцы и мышцы шеи, что и приводит к болям. Поэтому в идеале нужно, чтобы пустой портфель весил не более 500-700 граммов. А вместе с учебниками его вес не должен превышать 10% от массы тела ребенка.  Физиолого-гигиенические нормативы веса ежедневного комплекта учебников и письменных принадлежностей таков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учащихся начальных классов: 1-2-х – не более 1,5кг; 3-4-х – не более2,5кг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учащихся средних классов: 5-6х – не более 2,5кг; 7-8х – не более 3,5кг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учащихся 9-11х-не более 3,5-4к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ирина портфеля не должна превышать ширину плеч ребенка. Верхний край не должен быть выше плеч, а нижний — не ниже бедер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нец должен хорошо держать форму и не деформироваться при укладывании школьных принадлежностей. Чем больше в портфеле отделений, тем лучше — благодаря этому его маленькому хозяину будет проще найти нужную ему вещ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этому я в своём исследовании особое внимание хочу обратить на ве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кольного рюкза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ю было проведено исследование веса школьного рюкзака учащих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шей школ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яснилось, что вес ежедневного комплекта учебников и письмен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адлежностей  значительно превышает норму. На мой взгляд, это связано с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, чт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   В начальных классах большие по формату учебники и тетради на печат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некоторых первоклассников в рюкзаках ещё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жно  найти игрушк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огда родители покупают учащимся рюкзаки на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 4 года обучения в начальных классах,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этому некоторые из них не соответствуют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ту и весу 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У учащихся средних классов и старшеклассников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имо школьных принадлежностей в рюкзаках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щаются тетради и ежедневники с анкетами,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шники, различные диски и много чего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2403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 магазинах и на рынке родителям и их детям предлагается довольно большой выбор школьных ранцев, портфелей, сумок и рюкзаков. Но большинство из них имеют один серьезный недостаток: они довольно тяжелые. Чтобы не быть голословными, мы провели небольшой эксперимент и взвесили несколько ранцев, которые пользуются у школьников наибольшим спросом. Оказалось, что вместо положенных 500-700 граммов портфели весят от 900 до 1200 граммов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сканирование002"/>
          <p:cNvPicPr/>
          <p:nvPr/>
        </p:nvPicPr>
        <p:blipFill>
          <a:blip r:embed="rId1"/>
          <a:stretch/>
        </p:blipFill>
        <p:spPr>
          <a:xfrm>
            <a:off x="971640" y="3112920"/>
            <a:ext cx="6769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3:05:46Z</dcterms:created>
  <dc:creator>Владимир</dc:creator>
  <dc:description/>
  <dc:language>en-US</dc:language>
  <cp:lastModifiedBy>Admin</cp:lastModifiedBy>
  <dcterms:modified xsi:type="dcterms:W3CDTF">2010-10-09T15:11:23Z</dcterms:modified>
  <cp:revision>9</cp:revision>
  <dc:subject/>
  <dc:title>Министерство образования Омской области МОУ « Мокшинская СОШ»</dc:title>
</cp:coreProperties>
</file>